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B2D-F102-45A0-BFF0-DEC53B7F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590-248F-47F6-802F-21499AAF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F27-970D-4E3C-8A2C-B2F44F1E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861-5314-4E4B-A5EF-29404EFF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0FC-D9E3-4D0D-AEF6-5B1ED9B5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16A-A787-4A3A-ADD5-C10D2F1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64F-91C0-42E5-9C8F-CA58092D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C56-03C4-4C42-928F-97214DA6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399-F35F-4BE5-8CFE-7844677B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C07-B254-4C28-8B3F-3132839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787-4806-45ED-918C-B99D4706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8E3-99C0-4163-98FB-F998B613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5CA4-0E2F-478E-958D-7EB455D8E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24955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22560" y="4933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092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03T11:32:36Z</dcterms:modified>
  <cp:revision>58</cp:revision>
  <dc:subject/>
  <dc:title>Slide 1</dc:title>
</cp:coreProperties>
</file>